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BB0-D4C1-4EB3-9CE6-8D25DBF0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CE2-581D-406A-AF7C-181EA029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AE9-EB1B-4D68-9594-F83DC214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8E1-EA9F-45CA-9B0B-EA8F14C1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5239-3A12-42A7-B20E-CBEB0C85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B0F8-1B2F-44D1-B293-30681CC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FBB7-FDD6-459C-967F-6B0F464F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4288-15F3-429A-82E7-6E47F88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6D5-CDFB-415A-B85B-58378638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199-83D2-41DC-A84E-79438288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4674-0456-422A-9C8A-6B4E649B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B8F-5FC7-474F-BB6D-B4256CE5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FEDB-32F4-4881-9F4B-32EC3BF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6F7E-E88F-4F57-961E-D916870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8716-BA4B-4590-BD56-C3B93730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5A2A-56B6-4334-B5BE-D8147774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354-08DA-4493-B1E6-B88E7712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8BE2-4CD0-4F28-8635-9BA71E88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F851-5496-434F-8AF2-68618082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AB60-9CCF-4DC2-872A-89F6D7D8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72E8-BC04-4DFB-BBA4-73403F5F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7C9E-B904-4651-B2EC-8F59712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186-65F9-4BCB-8529-3CA9400C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12EB-FFAA-4211-8AD1-354D29CC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FDC1-37DE-438E-838B-AAA2813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B21D-5827-469D-B5D6-6D2F9D7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609B-7ACE-4D98-9BA4-9DE5E1C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04CE-93F6-45B8-A8A7-01866788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B9C0-80F0-469D-8046-A5B7C577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151B-5259-4429-965C-4B65EE1C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8128-4BB0-42B5-8BFC-41F7C400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4361-AE8B-470E-82A6-E5485EE1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2612-F240-453F-B74C-33996051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3A6-F5B3-4404-89FF-2208C749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01E1-4E64-40C4-80C4-D48C98B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C980-751A-46B8-A3A2-C3BCDF8E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6A8C-87C7-4D11-8DB0-DC13A65C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8C69-83D4-497B-907E-5B4AA69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353F-D528-4418-98D0-E2E951A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9AAA-72B0-4DCC-904E-36A5AF5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F009-F4C4-474A-9261-A817B3C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0B1E-B105-448D-B630-D70E0C49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0030-86F6-4ABB-A622-2EB55F10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DEA-7576-48DB-94E5-EC9216A4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6D8-7D71-496E-A3B9-73BDEB4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C64-3EE6-4D1B-A6ED-E226001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C5C-F0A3-4EC4-939F-9569EC5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D32-2585-4D6D-8DFA-BF66B7E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F16CB-5117-4309-94C1-315696E49D4E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1467A-9B94-4179-A96F-1F9995E38D3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11694-015D-4012-B796-C3C73DE0C763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4473C-0B1C-4464-9970-F125637FA3A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64CC0-85CC-47B5-86F3-3E18CC507B77}" type="datetime">
              <a:rPr b="0" lang="en-US" sz="1200" spc="-1" strike="noStrike">
                <a:solidFill>
                  <a:srgbClr val="d1eae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CD783-A3CF-4E36-9571-90693D10577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0945C-1FBE-468D-977F-215B3764C6A8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5E640-9694-4413-B0FD-5FF870A740E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NICA’ lif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Subtitle 2"/>
          <p:cNvSpPr/>
          <p:nvPr/>
        </p:nvSpPr>
        <p:spPr>
          <a:xfrm>
            <a:off x="6188040" y="5164200"/>
            <a:ext cx="1112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ubtitle 2"/>
          <p:cNvSpPr/>
          <p:nvPr/>
        </p:nvSpPr>
        <p:spPr>
          <a:xfrm>
            <a:off x="6188040" y="5164200"/>
            <a:ext cx="911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ubtitle 2"/>
          <p:cNvSpPr/>
          <p:nvPr/>
        </p:nvSpPr>
        <p:spPr>
          <a:xfrm flipH="1">
            <a:off x="581760" y="5164200"/>
            <a:ext cx="1249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P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7505640" y="5316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as born in Mexico, April 2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199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as in México, with my friend I had 5 friend in Mex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as six year old in I came to the  USA to learn math in other 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came to school in the  USA because my dad was in the USA I was sad to leave my  friend in Mexico because my family was in Mexico to. I was sad to leave Mexico because a had los for friend my friend where sad the I have leave Mexico because my dad was in USA  I was sad to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going to Imiddl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going to  Méx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happy to in the USA because have los for friend in the USA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happy to go to Imiddle school because I los friend in I middle . I am going to go again to Mexico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going to a good college and I am happ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happy to lever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dia Di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9:43:55Z</dcterms:created>
  <dc:creator>City School</dc:creator>
  <dc:description/>
  <dc:language>en-US</dc:language>
  <cp:lastModifiedBy>City School</cp:lastModifiedBy>
  <dcterms:modified xsi:type="dcterms:W3CDTF">2012-09-20T20:11:41Z</dcterms:modified>
  <cp:revision>13</cp:revision>
  <dc:subject/>
  <dc:title>MONICA’ life</dc:title>
</cp:coreProperties>
</file>